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A30-84FE-47AF-A4B9-43717673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8FC-E6FE-4DF4-BB98-FE84264F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007-C4BB-4FC3-B96A-C454F133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300-5F7E-4582-828F-F830559E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5D2F-89B1-444C-B320-C27F871C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B9FA-176B-4724-9ED6-378F3B1D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7970-7AC3-418E-8B13-1B588763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1D9D-E5DB-48E5-A1DF-063FC649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6A09-68AC-49F2-8DB7-94332826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E3D8-36BB-476C-8D6D-69F100D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B03A-08FC-4CBF-A42F-69BA24F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B53-E55E-41DF-A787-66780300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F1FC-9591-424E-AD0E-6552571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97D3-D2B0-4D1F-9612-75BBCE12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2DC2-C2CE-4E7A-8002-3EB67711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BC22-03AA-4337-A122-2D517893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42DF-170E-4FB9-B73D-447C1D92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C16B-1DBE-4C8E-9AC9-81A6B1CC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7117-E987-486C-82A4-03D3A0F7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C21B-D340-4D57-B584-4C41F6AF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75C1-1F65-4980-A5E3-0D3D0108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21F9-7E4A-466C-AD35-8740983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742-9209-434A-9537-6AE27A9F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4E34-1829-4998-B3F9-5FDC59D2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AC34-B4FE-4615-B164-E0576DA0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9A96-41E0-4216-9DDF-10FD12E9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53B0-33ED-47FD-B1B1-BABA3E2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80E3-2ED9-4183-A404-8F76370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4E70-B683-4F38-80CB-926D7737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0794-D722-4B4F-9966-85F7CC16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5DDD-9398-4EE5-869C-F2C261FB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2982-1DDD-4F44-8ACC-18690CB1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A380-D9AD-4FFE-9C4F-CF7AE4BB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89E-4A1A-45D6-884C-3A1F3320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2ECB-2019-4BCB-9B38-AFD846AB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092D-D586-4802-B252-565ECBC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3C79-5C03-483C-AE70-EC56109B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9CD4-2CA1-44DB-9404-C52C3906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FDF6-D464-479C-B34A-A600643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0F53-8042-466E-9D71-1A22C7D5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DEEA-1121-4EAB-B81F-ABD72FCA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421CB-703A-415A-8C8B-C8329AC5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46E2-6834-4CD6-AB24-2AE90532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8DFAD-05EB-4F1B-A109-ACBE2669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16F-83D3-4E4C-A934-1BE80442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F3D6-5FCA-40DF-B001-5DD33E74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C323-A9DE-4AD3-8664-822D7572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1608-2E2E-436A-8AA6-DD9DDC2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2A57A-6FAD-48C1-8427-3128BEDF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5B8F-2450-4745-A440-64539989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8860-2A51-4D09-A887-1D0EBFDB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F51A-D65F-4210-9E83-79BE624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C86F-0825-4145-A332-25F44600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746F5-9B69-4F6C-995D-4934692B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71F3-184F-4A46-A283-BD558279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91A-FDF0-4A4D-83E5-3964AA64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4383-8E5E-4FA6-8495-3BAC9AB3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D27-7BCC-460F-A8CD-42D2AC2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8EE-B475-479D-AE59-CC69628A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88B-C4F8-43C4-A34F-BE5107C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4B24-8158-4D97-B9B8-98DEC1CED1F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26F0-B233-4C59-B342-BECD769A8C1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465A-765F-4681-A5EA-571B6A99F6F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D6D7-E533-45A9-82CC-850542730F5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665-CDC7-479F-B795-E5BAF4AF67E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 fourteen-line lyric poem, usually written in iambic pentameter, that has one of several rhyme schem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380880"/>
            <a:ext cx="72388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t as Mirror – one function of a work of art is to reveal something about the world; it can mirror beauty or unattractive aspec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asting Time – life on earth is short; it is the time after life that matters; life on earth should not be wasted on temporary th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hetorical Questions – intended to make people think, usually about their own behavi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Whoso List to Hunt”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– Sir Thomas Wyat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ditional gossip says this poem is about Wyatt’s longing for Anne Boley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yatt realized that King Henry VIII was interested in Anne as we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yatt gave up the “hunt” for Anne to whomever else wanted to pursue h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oso List to Hunt” is an adaptation of a Petrarchan sonne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Sonnet 30; Sonnet 75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- Edmund Spenser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morett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s a sequence of 89 sonne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y record a man’s two-year courtship of a woman named Elizabe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nnet 30 – the speaker uses an original convention to compare his love for a woma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nnet 30 uses a paradox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nnet 75 – Spenser uses “eternizing conceit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onnet 29, Sonnet 73, Sonnet 116, Sonnet 130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- William Shakespea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16292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490760"/>
            <a:ext cx="7162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55840" cy="4791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330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432240" cy="4876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400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hyme scheme – pattern of rhymes in a poem; usually referred to by lett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urn – a shift in focus or thoug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eit – a fanciful and extended poetic comparison of two things that appear to have little in comm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laint – poems conveying laments of unrequited lovers; melancholy po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taphor – comparisons of two unlike th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533520"/>
            <a:ext cx="7238880" cy="59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rsonification – a kind of metaphor in which a nonhuman or nonliving thing or quality is talked about as if it were human or had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magery – language that appeals to the sen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ody – the imitation of a work of literature, art, or music for amusement or instru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storal – a type of literature that depicts country life in idyllic, idealized ter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rpe diem – a Latin phrase which means “seize the day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tire – a kind of writing that ridicules human weakness, vice, or folly in order to bring about social ref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723888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adox – an apparent contradiction that is somehow tru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usion – a reference to a statement, person, place, event, quotation, or work of art that is known from history, religion, culture, etc. the reader is expected to know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trarchan sonnet – named after the fourteenth-century Italian poet Petrarch, who popularized the fo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Divided into two parts—an octave (8 lines) and a sestet (6 lines)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Rhyme scheme: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ctave – abbaabb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stet – cdecde  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cdcdc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The octave usually presents a problem, poses a question, or expresses an idea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The sestet resolves, answers, or drives home the idea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The turn usually occurs at the beginning of the sestet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2388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enserian sonnet – widely used by Edmund Spens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ivided into three quatrains (4 lines each) and a couplet (2 lines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hyme scheme – abab  bcbc  cdcd  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380880"/>
            <a:ext cx="72388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akespearean sonnet, or English sonnet – widely used by William Shakespe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Divided into three quatrains and a couplet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hyme scheme – abab  cdcd  efef  g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The quatrains often express related ideas or examples.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The couplet sums up the poet’s conclusion or message found in the first thre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The turn usually occurs at the end of the third quatrain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eat Chain of Being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od -&gt; Nine order of angels -&gt; man -&gt; beasts -&gt; plants -&gt; ston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ritas – love of God and any person or thing as a creature of God; considered unselfish love or char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upidtas – love of any person or thing to satisfy one’s selfish desire; love motivated by pride; therefore, false lo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380880"/>
            <a:ext cx="72388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ide – sin from which all other sins grow; the sin is making oneself more important than G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tability – based around the idea that nothing of this earth will last, so people should not put hope in things of the world, but in G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/Abuse – all that man possesses, including life, is a gift from God; man chooses to use it or abuse it for his own pr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son vs. Passion – ability to think clearly and make choices based on thoughts; man was created as a reasonable creature, but when passions take over, man behaves irrationall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8:57:24Z</dcterms:created>
  <dc:creator>pcoles</dc:creator>
  <dc:description/>
  <dc:language>en-US</dc:language>
  <cp:lastModifiedBy>Trina Vest</cp:lastModifiedBy>
  <dcterms:modified xsi:type="dcterms:W3CDTF">2009-03-31T16:18:52Z</dcterms:modified>
  <cp:revision>8</cp:revision>
  <dc:subject/>
  <dc:title>Sonnets</dc:title>
</cp:coreProperties>
</file>